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05E7-D0C3-48AB-9C18-E2471181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370-B3EE-420F-9F24-D1D82E07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EE7-F573-4822-B3D9-9B1915ED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5A4D-9445-45BB-8D76-46C44431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673B-1FD0-4729-9FDE-754D6384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E167-C32D-4220-8F2E-E81F4763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D469-7533-4D6C-87E5-D06D8EAE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8F95-9FB5-45A6-9DB8-26DFC8FE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46F-F525-4D0C-9270-F02C4E96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C105-902F-41ED-9BEC-9012FF21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A37-05C2-4081-84D5-C59F7211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CC4-1FB2-4D5F-B248-588C66DE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333399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BC42-CB11-45EB-AB82-4C916438B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333399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4538520" cy="4648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19320" y="0"/>
            <a:ext cx="546264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San José, Costa Rica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191120" y="55627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Dylan Montgomery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2895480"/>
            <a:ext cx="228600" cy="2286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333399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Bodoni MT Black"/>
              </a:rPr>
              <a:t>Descripción Fís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ontinente – América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aíses Vecinos – Panamá al sur y Nicaragua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l </a:t>
            </a:r>
            <a:r>
              <a:rPr b="0" lang="es-MX" sz="2800" spc="-1" strike="noStrike">
                <a:solidFill>
                  <a:srgbClr val="ff9900"/>
                </a:solidFill>
                <a:latin typeface="Arial"/>
              </a:rPr>
              <a:t>nort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l Clima – Tropical  con un grado promedio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19 grados en el invierno y un grado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romedio de 22 en la primav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La Geografía – Montañoso con una playa en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ada co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rquitectura – Colonial España y mod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333399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910400" cy="3681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057040" y="3885840"/>
            <a:ext cx="7086600" cy="2971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Número de Habitants – 1,527,300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orcentaje de Pobreza – 6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orcentaje de Alfabetismo – 9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ligion Oficial – Católico Roma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dioma Oficial - Españ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21144600">
            <a:off x="3809520" y="761760"/>
            <a:ext cx="456264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stadísticas de San Jos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333399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4037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9900"/>
                </a:solidFill>
                <a:latin typeface="Arial"/>
              </a:rPr>
              <a:t>Museos – </a:t>
            </a:r>
            <a:r>
              <a:rPr b="0" lang="es-ES_tradnl" sz="2700" spc="-1" strike="noStrike">
                <a:solidFill>
                  <a:srgbClr val="ff9900"/>
                </a:solidFill>
                <a:latin typeface="Arial"/>
              </a:rPr>
              <a:t>el Museo de Oro Precolombino y el </a:t>
            </a:r>
            <a:r>
              <a:rPr b="0" lang="es-ES_tradnl" sz="27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s-ES_tradnl" sz="2700" spc="-1" strike="noStrike">
                <a:solidFill>
                  <a:srgbClr val="ff9900"/>
                </a:solidFill>
                <a:latin typeface="Arial"/>
              </a:rPr>
              <a:t>Museo de Jad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9900"/>
                </a:solidFill>
                <a:latin typeface="Arial"/>
              </a:rPr>
              <a:t>Lugares de Interés – </a:t>
            </a:r>
            <a:r>
              <a:rPr b="0" lang="es-ES_tradnl" sz="2700" spc="-1" strike="noStrike">
                <a:solidFill>
                  <a:srgbClr val="ff9900"/>
                </a:solidFill>
                <a:latin typeface="Arial"/>
              </a:rPr>
              <a:t>el Parque Nacional del</a:t>
            </a:r>
            <a:r>
              <a:rPr b="0" lang="es-ES_tradnl" sz="27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s-ES_tradnl" sz="2700" spc="-1" strike="noStrike">
                <a:solidFill>
                  <a:srgbClr val="ff9900"/>
                </a:solidFill>
                <a:latin typeface="Arial"/>
              </a:rPr>
              <a:t>Volcán </a:t>
            </a:r>
            <a:r>
              <a:rPr b="0" lang="es-ES_tradnl" sz="27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s-ES_tradnl" sz="2700" spc="-1" strike="noStrike">
                <a:solidFill>
                  <a:srgbClr val="ff9900"/>
                </a:solidFill>
                <a:latin typeface="Arial"/>
              </a:rPr>
              <a:t>Poas y el Parque Nacional de Barra Honda</a:t>
            </a:r>
            <a:r>
              <a:rPr b="0" lang="en-US" sz="27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9900"/>
                </a:solidFill>
                <a:latin typeface="Arial"/>
              </a:rPr>
              <a:t>Fiestas Tradicionales – </a:t>
            </a:r>
            <a:r>
              <a:rPr b="0" lang="es-ES_tradnl" sz="2700" spc="-1" strike="noStrike">
                <a:solidFill>
                  <a:srgbClr val="ff9900"/>
                </a:solidFill>
                <a:latin typeface="Arial"/>
              </a:rPr>
              <a:t>Semana Santa y el Dos de </a:t>
            </a:r>
            <a:r>
              <a:rPr b="0" lang="es-ES_tradnl" sz="27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s-ES_tradnl" sz="2700" spc="-1" strike="noStrike">
                <a:solidFill>
                  <a:srgbClr val="ff9900"/>
                </a:solidFill>
                <a:latin typeface="Arial"/>
              </a:rPr>
              <a:t>Agosto</a:t>
            </a:r>
            <a:r>
              <a:rPr b="0" lang="en-US" sz="27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990720"/>
            <a:ext cx="472464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cc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nformación Cultur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ffcc66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333399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Bodoni MT Black"/>
              </a:rPr>
              <a:t>Información Cultu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3962160"/>
            <a:ext cx="9144000" cy="289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letos y Bebidas Típicas – 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gallo pinto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y 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muchos 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frijoles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Un Personaje Famoso - 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el pintor Francisco 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Amighetti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Una razón  para visitar San José es que Costa Rica 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es un país muy bonito con flores tropicales y 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animales especia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2819160" cy="214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791320" y="1676520"/>
            <a:ext cx="1904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4:35:58Z</dcterms:created>
  <dc:creator>HP Authorized Customer</dc:creator>
  <dc:description/>
  <dc:language>en-US</dc:language>
  <cp:lastModifiedBy>HP Authorized Customer</cp:lastModifiedBy>
  <dcterms:modified xsi:type="dcterms:W3CDTF">2008-02-27T18:46:53Z</dcterms:modified>
  <cp:revision>4</cp:revision>
  <dc:subject/>
  <dc:title>Slide 1</dc:title>
</cp:coreProperties>
</file>